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3CAF-9179-44EF-9D19-F5185079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1AE-7993-441F-96B7-88406CA8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E21-F7E4-41F7-A9F0-83963942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EEBA-22A4-43BA-AD43-72E939C0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7FB-F7C0-4239-9F4F-F61A58E6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308D-050C-47EA-BD36-A31F93E6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6DD-EE66-418D-A75B-31E40F76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57A-0D1E-4137-863E-1C24AEE6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7AF-9AF8-4440-96C5-1FEBAC0F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FE8-BCA9-4DF7-8773-8A57741B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5A0-0DCD-4B02-B1B2-7BB7AA84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8EE5-FBE2-4C7F-B135-51F1C2B1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FCE08-7DDF-4419-BE60-04E85C80FAAA}" type="datetime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4F704-5382-452F-9DBF-BEE651C2AB26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0" y="932040"/>
            <a:ext cx="91440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ANIFICAÇÃO E CONFEITARIA 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erformance do setor em 2011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José Joffre Nascimento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36B00-4721-40FF-AA66-5C0D97511D33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Motivos do crescimento do setor de Panificaçã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CaixaDeTexto 5"/>
          <p:cNvSpPr/>
          <p:nvPr/>
        </p:nvSpPr>
        <p:spPr>
          <a:xfrm>
            <a:off x="314280" y="1241280"/>
            <a:ext cx="862812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mento do emprego com redução do tempo de permanência das pessoas em casas, contribuindo com o aumento das refeições fora do lar – 30% no Brasil, enquanto nos EUA é de 42%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ssoas com mais dinheiro comem mais fora de casa e compram produtos com maior valor agregado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rnização das empresas, inovando em equipamentos, processos e gestão administrativa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CBECF-7FCF-4D66-A838-F78FBBA6CAD2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Motivos do crescimento do setor de Panificaçã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CaixaDeTexto 5"/>
          <p:cNvSpPr/>
          <p:nvPr/>
        </p:nvSpPr>
        <p:spPr>
          <a:xfrm>
            <a:off x="314280" y="1241280"/>
            <a:ext cx="8628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sso  de 3,6 milhões de pessoas à classe  média; destes, 1,4 milhão vieram da classe E e 356 mil da classe D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scimento populacional de 1,6 milhão de pessoas entre 2010 e 2011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scimento do PIB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er capi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L 806/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Importante ação realizada em conjunto com panificadores de Sergi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23% das panificadoras brasileiras utilizam lenha como fonte energe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azo para adequ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NR-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TE. Atualiza redação da norma sobre equipament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vigor  Dezembro/2010 estabelece prazos para troca de equipamentos de 12 a 66 me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anificação:Cilindro,Amassadeiras,batedeiras,modeladoras e demais máquin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NR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ais de 30 seminários realizados pela entidade nacional de panificação sensibilizando o panificador quanto a necessidade da troca de equipame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indicatos consiguiram abertura de credito junto as linhas de credito governamentais(BND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Responsabilidade Socio-Ambein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acola Perman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leta de Óleo Comestível us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leta de P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desão a projetos da comun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Forno Ve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Trabalho sendo realizado juntamente com o Inmetro,Abip,Abiepan(Fabricantes) e Sebra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ornos ,fogões receberão selo relativo a sua eficiencia energé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EDEC0-30D4-4412-A51E-7294959C9319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CaixaDeTexto 6"/>
          <p:cNvSpPr/>
          <p:nvPr/>
        </p:nvSpPr>
        <p:spPr>
          <a:xfrm>
            <a:off x="417600" y="779400"/>
            <a:ext cx="8269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Grande"/>
              </a:rPr>
              <a:t>ABI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Grande"/>
              </a:rPr>
              <a:t>Associação Brasileira da Indústria da Panificação e Confeitaria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SHN Quadra 02 – Bloco H, nº 30, Sobreloja – Sala 55 – Mix Metropolitan Fla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Brasília/DF – Cep: 70.702-905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Tel: (61) 3327-3332 / (31) 3274-6376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www.abip.org.br / www.propan.com.br / propan@propan.com.b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C2D4DA-923D-4C48-BF12-42268B0E67E4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Classificação das empresas por nº de funcionário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Gráfico 7" descr=""/>
          <p:cNvPicPr/>
          <p:nvPr/>
        </p:nvPicPr>
        <p:blipFill>
          <a:blip r:embed="rId1"/>
          <a:stretch/>
        </p:blipFill>
        <p:spPr>
          <a:xfrm>
            <a:off x="542880" y="731880"/>
            <a:ext cx="7839000" cy="504648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1"/>
          <p:cNvSpPr/>
          <p:nvPr/>
        </p:nvSpPr>
        <p:spPr>
          <a:xfrm>
            <a:off x="5756400" y="6432480"/>
            <a:ext cx="2368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onte: ABIP/Propan - 20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20407-F2F6-4A92-ACA8-A5B1C642099A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erformance do Setor de Panificação e Confeitaria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8" name="Gráfico 5" descr=""/>
          <p:cNvPicPr/>
          <p:nvPr/>
        </p:nvPicPr>
        <p:blipFill>
          <a:blip r:embed="rId1"/>
          <a:stretch/>
        </p:blipFill>
        <p:spPr>
          <a:xfrm>
            <a:off x="-6480" y="0"/>
            <a:ext cx="915696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DA5E1-8198-4662-B1E8-F44013911D92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Retângulo 3"/>
          <p:cNvSpPr/>
          <p:nvPr/>
        </p:nvSpPr>
        <p:spPr>
          <a:xfrm>
            <a:off x="0" y="0"/>
            <a:ext cx="91440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Setor de Panificação - Indicadores 2011  - Descontados a Inflaçã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" name="Gráfico 4" descr=""/>
          <p:cNvPicPr/>
          <p:nvPr/>
        </p:nvPicPr>
        <p:blipFill>
          <a:blip r:embed="rId1"/>
          <a:stretch/>
        </p:blipFill>
        <p:spPr>
          <a:xfrm>
            <a:off x="0" y="0"/>
            <a:ext cx="836928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294F2-6099-45C6-81F4-A43C0921D682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volução do Faturamento - em Bilhões de Reais e %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4" name="Gráfico 6" descr=""/>
          <p:cNvPicPr/>
          <p:nvPr/>
        </p:nvPicPr>
        <p:blipFill>
          <a:blip r:embed="rId1"/>
          <a:stretch/>
        </p:blipFill>
        <p:spPr>
          <a:xfrm>
            <a:off x="-6480" y="731880"/>
            <a:ext cx="915696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668CC-F868-4B2B-8A77-25BF4208EC93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erformance do Setor de Panificação e Confeitaria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Retângulo 7"/>
          <p:cNvSpPr/>
          <p:nvPr/>
        </p:nvSpPr>
        <p:spPr>
          <a:xfrm>
            <a:off x="4572000" y="5202360"/>
            <a:ext cx="4572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Lucida Grande"/>
              </a:rPr>
              <a:t>*Valor estimado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Lucida Grande"/>
              </a:rPr>
              <a:t>**Fonte:ITPC/Propan – 2012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Lucida Grande"/>
              </a:rPr>
              <a:t>***Comparado com o ano anterior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03200" y="752400"/>
          <a:ext cx="8269200" cy="4373640"/>
        </p:xfrm>
        <a:graphic>
          <a:graphicData uri="http://schemas.openxmlformats.org/drawingml/2006/table">
            <a:tbl>
              <a:tblPr/>
              <a:tblGrid>
                <a:gridCol w="992160"/>
                <a:gridCol w="2306520"/>
                <a:gridCol w="1824120"/>
                <a:gridCol w="1654200"/>
                <a:gridCol w="1492200"/>
              </a:tblGrid>
              <a:tr h="48276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ção do Setor de Panificação no PIB Brasilei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8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turamento**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scimento do setor 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ção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512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98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38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61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38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98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23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52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25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30 bilhõ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 trilhõ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84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99 bilhõ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8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 trilhões*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E315D-7C92-4FDA-BFBD-630AE25B2C6D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volução de outros três Indicadores do Setor de Panificação (em %)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2006 - 2011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1" name="Gráfico 4" descr=""/>
          <p:cNvPicPr/>
          <p:nvPr/>
        </p:nvPicPr>
        <p:blipFill>
          <a:blip r:embed="rId1"/>
          <a:stretch/>
        </p:blipFill>
        <p:spPr>
          <a:xfrm>
            <a:off x="609480" y="652320"/>
            <a:ext cx="76392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C275F-73D5-4F4A-9A8D-646F4C9603EE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Retângulo 3"/>
          <p:cNvSpPr/>
          <p:nvPr/>
        </p:nvSpPr>
        <p:spPr>
          <a:xfrm>
            <a:off x="0" y="119160"/>
            <a:ext cx="9144000" cy="8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Desempenho do Setor em 201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CaixaDeTexto 5"/>
          <p:cNvSpPr/>
          <p:nvPr/>
        </p:nvSpPr>
        <p:spPr>
          <a:xfrm>
            <a:off x="266760" y="1522440"/>
            <a:ext cx="868680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fluxo de pessoas atingiu a marca de 43,23 milhões de pessoas, quase 1 milhão a mais do que o ano de 2010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As vendas de produtos de produção própria – R$ 32,12 bilhões –  representaram 51% do faturamento total de R$ 62,99 bilhões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rojeção do faturamento abrange cerca de 20% de empresas informais do setor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1CFBD-EB63-45B3-8536-23D943FEB033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Retângulo 3"/>
          <p:cNvSpPr/>
          <p:nvPr/>
        </p:nvSpPr>
        <p:spPr>
          <a:xfrm>
            <a:off x="0" y="190440"/>
            <a:ext cx="9144000" cy="7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Desempenho do Setor em 201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CaixaDeTexto 5"/>
          <p:cNvSpPr/>
          <p:nvPr/>
        </p:nvSpPr>
        <p:spPr>
          <a:xfrm>
            <a:off x="343080" y="649440"/>
            <a:ext cx="821052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O setor de panificação  vem contribuindo consideravelmente, nos últimos anos, para o crescimento  do </a:t>
            </a:r>
            <a:r>
              <a:rPr b="0" i="1" lang="pt-BR" sz="2000" spc="-1" strike="noStrike">
                <a:solidFill>
                  <a:srgbClr val="c00000"/>
                </a:solidFill>
                <a:latin typeface="Lucida Grande"/>
              </a:rPr>
              <a:t>food service </a:t>
            </a: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no Brasil. Em 2011 a participação aproximada foi   de 36,05% do  faturamento de R$ 89,1 bilhões do </a:t>
            </a:r>
            <a:r>
              <a:rPr b="0" i="1" lang="pt-BR" sz="2000" spc="-1" strike="noStrike">
                <a:solidFill>
                  <a:srgbClr val="000000"/>
                </a:solidFill>
                <a:latin typeface="Lucida Grande"/>
              </a:rPr>
              <a:t>food servic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Lucida Grande"/>
              </a:rPr>
              <a:t>Aumento de 2,8% no número de postos de trabalhos gerados em 2011, Isso representa  21 mil funcionários contratados pelas padarias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O setor emprega  cerca de 779 mil empregos diretos e 1,8 milhão de forma indireta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14:42:51Z</dcterms:created>
  <dc:creator>Alysson</dc:creator>
  <dc:description/>
  <dc:language>en-US</dc:language>
  <cp:lastModifiedBy>Usuário</cp:lastModifiedBy>
  <dcterms:modified xsi:type="dcterms:W3CDTF">2012-07-04T12:07:49Z</dcterms:modified>
  <cp:revision>221</cp:revision>
  <dc:subject/>
  <dc:title>Slide 1</dc:title>
</cp:coreProperties>
</file>